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FFD-11B7-45FA-90EB-8B84BAD9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D7E-E661-41AA-8FB6-F27B2BE4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599-182C-4428-9AE0-B79A1049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F35-F0E2-4D8C-9716-9AF32466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D7A-5055-4F93-895B-DA0B2B21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BE4-F7F3-412F-8DA6-7E0F89B4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936-7F4B-4D76-B21C-B0654B8C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55B-3A28-4156-906A-3EA8FA65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536-A6FC-4439-963F-23DB15EC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F29-F6DF-4AA0-9101-484D68B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5F7-99F6-4E35-9B2E-241A56D8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C3B-14BE-414F-A742-63895571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A5E4-70E9-4DD3-AF03-AE50D309A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8481" r="64755" b="0"/>
          <a:stretch/>
        </p:blipFill>
        <p:spPr>
          <a:xfrm>
            <a:off x="836640" y="1763640"/>
            <a:ext cx="463068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68280" y="468360"/>
            <a:ext cx="417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9292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inladu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29292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336320" y="1054080"/>
            <a:ext cx="3812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adder ITC"/>
              </a:rPr>
              <a:t>Einwei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e m e i n d e h a u s 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ient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0440" y="3276720"/>
            <a:ext cx="61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ann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am Samstag, de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.12.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: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287960"/>
            <a:ext cx="6629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Wir wollen das neue Gemeindehaus einweihen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gemeinsam unseren ersten Weihnachtsbaum schmüc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Um diesen zu gestalten, bitte ich alle Gäste e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kleine Gabe mitzubringen (Kugel, Strohstern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Nach dem offiziellen Teil werden wir mit Glühw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und Weihnachtsmusik den Abend ausklingen la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Für das leibliche Wohl ist gesor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3080" y="795672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 zahlreiches Erscheinen wird geb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10440" y="838836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dwardian Script ITC"/>
              </a:rPr>
              <a:t>Nino Winkel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000" y="0"/>
            <a:ext cx="6335640" cy="10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60280" y="9037800"/>
            <a:ext cx="6335640" cy="1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1:24Z</dcterms:created>
  <dc:creator>ON1</dc:creator>
  <dc:description/>
  <dc:language>en-US</dc:language>
  <cp:lastModifiedBy>Martina</cp:lastModifiedBy>
  <dcterms:modified xsi:type="dcterms:W3CDTF">2009-12-03T10:56:36Z</dcterms:modified>
  <cp:revision>7</cp:revision>
  <dc:subject/>
  <dc:title>Folie 1</dc:title>
</cp:coreProperties>
</file>